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37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2395-C7E4-4832-888B-8E1FAA03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BD77-E502-4A5C-B467-0E61447E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6A5A-3A26-4004-BAEA-90DF7191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8D8C-D53C-4374-B87F-F50E4D98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B02F-846A-4CDB-8810-07C682E2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6C7F-0553-4CD3-B2B5-4CCA33E9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BC5C-AA89-4FDE-A6ED-20351327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A584-6406-4D82-9491-3F31A33E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6C84-9CE5-4A4F-8101-252C484E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7CFB-EDEB-453A-AC17-4F6EAE36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8E7F-7EC7-4E0B-BF19-8264D307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2015-9939-44FF-9B70-6FE287B2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5A8A-0792-4EC0-8C14-B167BE3C4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29400"/>
            <a:ext cx="220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evisualclassroom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image" Target="../media/image37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52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6.2 Rates of Change for Composite Function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     - The Chain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609560" y="3314880"/>
          <a:ext cx="212436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9560" y="3314880"/>
                    <a:ext cx="2124360" cy="10285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76320" y="462132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00200" y="5334120"/>
          <a:ext cx="5003640" cy="108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5334120"/>
                    <a:ext cx="500364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304920" y="139716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Given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4 –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14920" y="1414440"/>
            <a:ext cx="250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4 –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57960" y="14000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95440" y="198108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un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un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osite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795840" y="3238560"/>
          <a:ext cx="4481280" cy="102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95840" y="3238560"/>
                    <a:ext cx="4481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3880" y="1062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oof of the Chain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447920" y="838080"/>
          <a:ext cx="2028600" cy="9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38080"/>
                    <a:ext cx="20286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905120" y="1905120"/>
          <a:ext cx="2528640" cy="103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1905120"/>
                    <a:ext cx="252864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890720" y="3048120"/>
          <a:ext cx="2986200" cy="97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90720" y="3048120"/>
                    <a:ext cx="298620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820880" y="4267080"/>
          <a:ext cx="3016080" cy="974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20880" y="4267080"/>
                    <a:ext cx="301608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798560" y="5608800"/>
          <a:ext cx="1554120" cy="944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98560" y="5608800"/>
                    <a:ext cx="1554120" cy="94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334120" y="9907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b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19810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040" y="33526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both limits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405400" y="4518000"/>
          <a:ext cx="3276720" cy="468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05400" y="4518000"/>
                    <a:ext cx="32767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5334120" y="57913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. of deriv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3049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xample 1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127400" y="177840"/>
          <a:ext cx="52236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7400" y="177840"/>
                    <a:ext cx="5223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2362320" y="3682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43164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6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36920" y="1154160"/>
          <a:ext cx="2381040" cy="90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36920" y="1154160"/>
                    <a:ext cx="238104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2533680" y="2133720"/>
          <a:ext cx="3943440" cy="95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33680" y="2133720"/>
                    <a:ext cx="394344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2943360" y="32148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(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6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43360" y="38242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2(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6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4572000"/>
            <a:ext cx="7086600" cy="0"/>
          </a:xfrm>
          <a:prstGeom prst="line">
            <a:avLst/>
          </a:prstGeom>
          <a:ln w="2844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487692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had expand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6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found the derivative of the product, the result would have been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2286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Chain Rule with the Power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914400" y="982800"/>
          <a:ext cx="472428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82800"/>
                    <a:ext cx="47242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328840" y="22860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]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0481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the derivative of the ‘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 function multiplied by the derivative of the ‘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3987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xample 2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40528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(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66236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33360" y="537696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ative of outer · derivative of i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3929040"/>
            <a:ext cx="8686800" cy="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52600" y="5186520"/>
            <a:ext cx="1295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7760" y="518148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24120" y="5210280"/>
            <a:ext cx="457200" cy="228600"/>
          </a:xfrm>
          <a:custGeom>
            <a:avLst/>
            <a:gdLst>
              <a:gd name="textAreaLeft" fmla="*/ 152280 w 457200"/>
              <a:gd name="textAreaRight" fmla="*/ 391680 w 457200"/>
              <a:gd name="textAreaTop" fmla="*/ 151920 h 228600"/>
              <a:gd name="textAreaBottom" fmla="*/ 195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7450"/>
                </a:moveTo>
                <a:lnTo>
                  <a:pt x="14350" y="17450"/>
                </a:lnTo>
                <a:lnTo>
                  <a:pt x="14350" y="7200"/>
                </a:lnTo>
                <a:lnTo>
                  <a:pt x="11250" y="7200"/>
                </a:lnTo>
                <a:lnTo>
                  <a:pt x="16425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995640" y="5200560"/>
            <a:ext cx="533520" cy="223920"/>
          </a:xfrm>
          <a:custGeom>
            <a:avLst/>
            <a:gdLst>
              <a:gd name="textAreaLeft" fmla="*/ 177840 w 533520"/>
              <a:gd name="textAreaRight" fmla="*/ 457200 w 533520"/>
              <a:gd name="textAreaTop" fmla="*/ 158760 h 223920"/>
              <a:gd name="textAreaBottom" fmla="*/ 191880 h 223920"/>
            </a:gdLst>
            <a:ahLst/>
            <a:rect l="textAreaLeft" t="textAreaTop" r="textAreaRight" b="textAreaBottom"/>
            <a:pathLst>
              <a:path w="21600" h="21600">
                <a:moveTo>
                  <a:pt x="0" y="18414"/>
                </a:moveTo>
                <a:lnTo>
                  <a:pt x="15314" y="18414"/>
                </a:lnTo>
                <a:lnTo>
                  <a:pt x="15314" y="7200"/>
                </a:lnTo>
                <a:lnTo>
                  <a:pt x="12214" y="7200"/>
                </a:lnTo>
                <a:lnTo>
                  <a:pt x="16907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464328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(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47960" y="46483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95480" y="58960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2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292640" y="152280"/>
          <a:ext cx="58428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2640" y="152280"/>
                    <a:ext cx="5842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2286000" y="3430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1160" y="2570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xample 3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105520" y="255600"/>
          <a:ext cx="3111480" cy="73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55600"/>
                    <a:ext cx="311148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562720" y="1127160"/>
          <a:ext cx="2909880" cy="70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1127160"/>
                    <a:ext cx="2909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567400" y="1676520"/>
          <a:ext cx="3043080" cy="868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7400" y="1676520"/>
                    <a:ext cx="304308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09480" y="1219320"/>
          <a:ext cx="3786480" cy="1347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1219320"/>
                    <a:ext cx="378648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609480" y="2514600"/>
          <a:ext cx="6551640" cy="141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480" y="2514600"/>
                    <a:ext cx="6551640" cy="14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066680" y="4191120"/>
          <a:ext cx="4410360" cy="1084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66680" y="4191120"/>
                    <a:ext cx="44103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990720" y="5437080"/>
          <a:ext cx="2631960" cy="1116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90720" y="5437080"/>
                    <a:ext cx="263196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257800" y="1295280"/>
            <a:ext cx="0" cy="1219320"/>
          </a:xfrm>
          <a:prstGeom prst="line">
            <a:avLst/>
          </a:prstGeom>
          <a:ln w="2844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/>
          <p:nvPr/>
        </p:nvCxnSpPr>
        <p:spPr>
          <a:xfrm rot="10800000">
            <a:off x="4395240" y="2067840"/>
            <a:ext cx="1172160" cy="218160"/>
          </a:xfrm>
          <a:prstGeom prst="bentConnector3">
            <a:avLst>
              <a:gd name="adj1" fmla="val 49984"/>
            </a:avLst>
          </a:prstGeom>
          <a:ln w="28440">
            <a:solidFill>
              <a:srgbClr val="008000"/>
            </a:solidFill>
            <a:miter/>
            <a:tailEnd len="med" type="triangle" w="med"/>
          </a:ln>
        </p:spPr>
      </p:cxnSp>
    </p:spTree>
  </p:cSld>
  <p:transition>
    <p:randomBar dir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6000" y="90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9600" y="84456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xample 4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848120" y="685800"/>
          <a:ext cx="2900520" cy="110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8120" y="685800"/>
                    <a:ext cx="290052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371600" y="177804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5(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–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62080" y="2616120"/>
            <a:ext cx="50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(–3)(5)(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–3–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3273480"/>
            <a:ext cx="27432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52680" y="34974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ve of outer · derivative of 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57960" y="3273480"/>
            <a:ext cx="4572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3301920"/>
            <a:ext cx="304920" cy="304920"/>
          </a:xfrm>
          <a:prstGeom prst="upArrow">
            <a:avLst>
              <a:gd name="adj1" fmla="val 50000"/>
              <a:gd name="adj2" fmla="val 48958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19880" y="3301920"/>
            <a:ext cx="304560" cy="304920"/>
          </a:xfrm>
          <a:prstGeom prst="upArrow">
            <a:avLst>
              <a:gd name="adj1" fmla="val 50000"/>
              <a:gd name="adj2" fmla="val 4901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62080" y="4322880"/>
            <a:ext cx="50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(–60)(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–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033640" y="5130720"/>
          <a:ext cx="1776240" cy="10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33640" y="5130720"/>
                    <a:ext cx="177624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838080" y="152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ifferentiating a quotient with constant numer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86240" y="2616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0" y="368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9600" y="3110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xample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414680" y="76320"/>
          <a:ext cx="244332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4680" y="76320"/>
                    <a:ext cx="244332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743440" y="1143000"/>
          <a:ext cx="1627200" cy="10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43440" y="1143000"/>
                    <a:ext cx="162720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304920" y="13860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composition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03280" y="2209680"/>
          <a:ext cx="2011320" cy="94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280" y="2209680"/>
                    <a:ext cx="201132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76280" y="3398760"/>
          <a:ext cx="1371600" cy="94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6280" y="3398760"/>
                    <a:ext cx="13716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76280" y="4556160"/>
          <a:ext cx="3994200" cy="1006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6280" y="4556160"/>
                    <a:ext cx="399420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876920" y="3048120"/>
          <a:ext cx="3841560" cy="1098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920" y="3048120"/>
                    <a:ext cx="384156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966960" y="5546880"/>
          <a:ext cx="1585800" cy="1006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66960" y="5546880"/>
                    <a:ext cx="1585800" cy="100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332320" y="4572000"/>
          <a:ext cx="1982880" cy="1068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32320" y="4572000"/>
                    <a:ext cx="1982880" cy="10684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4734000" y="3048120"/>
            <a:ext cx="0" cy="365760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981840" y="1790640"/>
            <a:ext cx="1143000" cy="14479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3618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ylindrical barrel has a radius of 1.2 m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9600" y="3049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xample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7398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ater is pouring in at a rate of 3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min, at what rate is the height of water in the barrel increas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81840" y="1647720"/>
            <a:ext cx="1143000" cy="114300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81800" y="1247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15360" y="181944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8003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34800" y="2400480"/>
          <a:ext cx="1311480" cy="94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2400480"/>
                    <a:ext cx="1311480" cy="94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304920" y="35146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2 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743200" y="3343320"/>
          <a:ext cx="1616040" cy="9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3343320"/>
                    <a:ext cx="161604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324000" y="43434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chain rule we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66840" y="5105520"/>
          <a:ext cx="2224080" cy="94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6840" y="5105520"/>
                    <a:ext cx="2224080" cy="94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5276880" y="2219400"/>
          <a:ext cx="1249200" cy="94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76880" y="2219400"/>
                    <a:ext cx="12492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5257800" y="3429000"/>
          <a:ext cx="1951200" cy="94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57800" y="3429000"/>
                    <a:ext cx="19512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5302080" y="4600440"/>
          <a:ext cx="3137040" cy="944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02080" y="4600440"/>
                    <a:ext cx="313704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4267080" y="5759280"/>
            <a:ext cx="472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ight of water is changing at a rate of 0.66 m/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33800" y="2305080"/>
            <a:ext cx="0" cy="3352680"/>
          </a:xfrm>
          <a:prstGeom prst="line">
            <a:avLst/>
          </a:prstGeom>
          <a:ln w="19080">
            <a:solidFill>
              <a:srgbClr val="33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3"/>
          <a:stretch/>
        </p:blipFill>
        <p:spPr>
          <a:xfrm>
            <a:off x="8780400" y="6541920"/>
            <a:ext cx="182520" cy="1828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10:11:11Z</dcterms:created>
  <dc:creator>Peter Maher</dc:creator>
  <dc:description/>
  <dc:language>en-US</dc:language>
  <cp:lastModifiedBy>Peter Maher</cp:lastModifiedBy>
  <dcterms:modified xsi:type="dcterms:W3CDTF">2004-11-19T14:47:04Z</dcterms:modified>
  <cp:revision>40</cp:revision>
  <dc:subject/>
  <dc:title>Slide 1</dc:title>
</cp:coreProperties>
</file>